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EED-4A96-4DFD-AEAE-28200EED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2D6-90E6-44AA-A660-00134EB8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693-4352-4524-91FF-273389F7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3CF-E7C2-4FF6-8B1C-C50ACD56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59B-6F2E-4D83-ACD9-F4C106FE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CAE-05C8-4E5C-B901-42EAC714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082-F19A-4224-ACFD-864FBF37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D2F-1431-48DD-827E-3072CEB9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BE5-0296-4C05-A557-D774E9F2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EB1-9535-4DAA-9C23-5E07446C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A2C4-8BE9-4BE5-8E12-B6E2F015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BCC-B9BE-4F37-94E1-60C710DF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BF58-2244-4638-9265-E3EC9E970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916280"/>
            <a:ext cx="5618160" cy="2398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771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абига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3171960"/>
            <a:ext cx="313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3 сыйныф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18864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ерек табигатне өйрән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зоология,                             -биология,                         - бота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.Тереклек ияләрен икенче төрле организмнар, дилә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. Тереклек ияләре терек булмаган табигатьтән түбәндәгеләр белән аеры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сулый,                                                           - тукл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ә,                                                               - үсеш ал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асып тора, егылмый,                                - үр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л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Бөтен тереклек түбәндәге патшалыкларга бүлен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емлекләр патшалыгы,                                         - хайваннар патшалыг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гөмбәләр патшалыгы,                                             - бактерияләр патшалыг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өҗәкләр патшалыг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. Иң беренче тапкырбактерияләрне нәрсә белән күргәннә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микроскоп,                                                            - телеско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лупа,                                                                       - кинеск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6"/>
          <p:cNvSpPr txBox="1"/>
          <p:nvPr/>
        </p:nvSpPr>
        <p:spPr>
          <a:xfrm>
            <a:off x="971640" y="1052640"/>
            <a:ext cx="7488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ек  табигатьне   өйрәнә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биологи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зоологи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ботани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6443640" y="2349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179280" y="549360"/>
            <a:ext cx="896472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реклек   ияләрен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кенче  төрле  организмнар,  диләр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3492360" y="4724280"/>
            <a:ext cx="20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117080" y="5229360"/>
            <a:ext cx="186422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еклек ияләре терек булмаган табигатьтән түндәгеләр белән аеры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сулый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туклана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ә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еш ала 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–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басып тора, егылмый, (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рчи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лә.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69480"/>
            <a:ext cx="9144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1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Бөтен тереклек түбәндәге патшалыкларга бүленә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емлек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хайванна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гөмбә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актерия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өҗәкләр патшалыгы</a:t>
            </a:r>
            <a:r>
              <a:rPr b="0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5580000" y="378936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0117080" y="5229360"/>
            <a:ext cx="186422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еклек ияләре терек булмаган табигатьтән түндәгеләр белән аеры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сулый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туклана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ә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еш ала 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–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басып тора, егылмый, (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рчи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лә.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-215640"/>
            <a:ext cx="9144000" cy="61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ереклек ияләре терек булмаган табигатьтән түбәндәгеләр белән аерыла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сул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тукла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сә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сеш ала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басып тора, егылм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рч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лә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580000" y="3645000"/>
            <a:ext cx="15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50920" y="85428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5. Иң беренче тапкыр бактерияләрне нәрсә белән күргәннәр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микроскоп,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елескоп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луп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кинеск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4356000" y="20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9:55:22Z</dcterms:created>
  <dc:creator>Admin</dc:creator>
  <dc:description/>
  <dc:language>en-US</dc:language>
  <cp:lastModifiedBy>Admin</cp:lastModifiedBy>
  <dcterms:modified xsi:type="dcterms:W3CDTF">2012-09-11T17:31:40Z</dcterms:modified>
  <cp:revision>18</cp:revision>
  <dc:subject/>
  <dc:title>Слайд 1</dc:title>
</cp:coreProperties>
</file>